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A06-1774-45C2-8B30-BA820763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5F3-D390-4776-9873-EA4A322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C32-5BCD-4FEC-A906-244E23AE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4DD-7479-413A-A7E3-1655A303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E0DA-3792-4AF2-B3F9-C0D67A4E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A050-71AF-4DF0-9397-EC6C2035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A936-C3A7-43F7-8894-6D6CBAB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8F98-AB68-4E8C-9D1E-7B01BA7C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CDDA-40D1-4359-A9F4-DB01F69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A65-7312-4913-AC18-B3FC085F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9D6-1A29-45AB-AF96-EC496FD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A79-6D8A-4C16-BB8B-E0CDC27F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4BF-4997-40CA-9458-DB5AB5BA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A359-951C-4157-87E9-D7BF5C0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A98-C253-4340-8531-5D297E5F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C3C-14BF-436C-8819-DDFD46B4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2C7E-741B-49E0-8F8B-FC1A3C00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B71-CDEE-46B9-A8AB-DAF51C64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219-363F-4B33-9800-C21CB30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2FD-EAEB-4352-A396-3072492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450-1961-4E5A-B812-832120C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85E-AD06-4C8A-9CA6-A6A92F0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EAC-8631-4FB3-9EAE-9764E75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E0B-A13B-46E7-A542-36BD8B9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C98-F7AE-46CE-97F5-4493B17DE1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889-B197-46E4-B327-57D8A118A1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mic Sans MS"/>
              </a:rPr>
              <a:t>Hoy es el 28 de mayo del 20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Propósito #82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¿Donde se habla español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Actividad ini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scribe los 7 continentes en tu cuader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Write the 7 continents in your note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266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EL ESPAÑOL</a:t>
            </a:r>
            <a:br>
              <a:rPr sz="40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EL MUND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abías que..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•  El español es la tercera lengua oficial más hablada en mundo (tras el chino mandarín y el inglés) -alrededor de 380 millones de personas la tienen como lengua materna- y en número de países –21 en 4 continentes- .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http://amaltheia.cs.teiher.gr/~kostas/spanish/Distribu.gif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jane</dc:creator>
  <dc:description/>
  <dc:language>en-US</dc:language>
  <cp:lastModifiedBy>Helen Zumaeta</cp:lastModifiedBy>
  <dcterms:modified xsi:type="dcterms:W3CDTF">2015-06-01T20:43:1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